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6A7-47A0-450B-8CBA-1553637E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863-6A48-4061-B257-BE1A7B5F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2CF-DB68-411D-B934-83363CB4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1A0-8E7A-48CA-92BE-F08DD28E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B2F1F-7312-4B91-9545-D60869BB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BCCC0-06F0-4B7C-AB86-90EFE942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6ABD5-F116-46A0-AC65-1559F5EA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1828C-4E5B-4731-98DB-E944A66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E5E54-521A-4888-80C6-61D59859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6193-3D08-40BF-B53A-595F59F1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979A8-BA98-4073-BAB0-8FA2BDAF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FE5-0063-4AA3-A676-25EF3A72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E4797-0E53-4FA6-AC07-2BFA7B7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415B2-FEC3-4359-89FA-B851F0C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E4D34-5B24-43D8-B784-175BA797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92B17-BEFB-49A5-B27E-999456ED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D2E16-C1C2-4596-9D76-05433123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438F-2517-43D7-BFEC-158AD8A4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73F4-785D-4B1E-BB02-6944261B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A068-FE86-4044-BC85-628EBB2F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16A1-9ED7-42C1-B87B-E05827C5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5F7B-DB29-40BD-9AA0-7FD177C6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9CD-E6F0-42DA-A9D8-41470A21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A61E-3F66-40DA-B736-F45032B8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0F66-DBBB-4392-AD2E-43BA1000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FEB0-6660-4D48-B074-684EDF4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D36F-A65F-490F-AA17-4719144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4FEB-A6C8-40D2-A6AD-901FC33D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2796-20CE-4F42-AD59-A0E24396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3350-E960-44C3-AED8-45E66A80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3F8F9-2EB3-46EF-B48A-78E032CE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77872-C116-44BD-A8A4-B9EF25AC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CF6DA-C624-4B6A-ABF2-8F739A84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CF2-4A49-4C93-BD89-3B8FDBF5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22BAA-F81F-41BF-B79F-692B1777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017FD2-C8F5-4B31-B5F0-61445AC5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FFE31-7C31-437E-8809-4E5429ED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9E937-17DD-4BE9-9C9A-FAA231A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0B69B-40B2-4BCC-A51E-3AFF027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3E6A9-4E14-45FD-96E5-B010E9D0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E3384-0C34-4BE9-B248-A2727737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CAF1B-ADD8-4FC2-8F45-A9AFC6EB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A52CF-32DE-4BA7-B7DB-FC56E8E8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16D-0685-4A52-B804-369A2A12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529-6A91-4497-BD4E-259551A3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15F-F5E5-4BD6-95BA-D0CA912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77A-932F-42F0-8636-439F47D9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520-4C4B-4F99-9FB4-0544F7E1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D446-B4F0-4D4D-819B-2008C9F7D40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6CCF-1C54-4CC4-BA6E-CEA3D52FB0F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D535-4F95-4D29-9A4A-224584BFE99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8B10-A8C3-4455-8E1C-D113AD2EB6E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32000" y="4868640"/>
            <a:ext cx="38307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Л.Е. Агее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08800" cy="194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ttp://www.diveevo.ru/objects/news_img_file_3426_b.jpg"/>
          <p:cNvPicPr/>
          <p:nvPr/>
        </p:nvPicPr>
        <p:blipFill>
          <a:blip r:embed="rId2"/>
          <a:stretch/>
        </p:blipFill>
        <p:spPr>
          <a:xfrm>
            <a:off x="1116000" y="1773360"/>
            <a:ext cx="38098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5286240" y="357120"/>
            <a:ext cx="3576600" cy="55738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14200" y="-91080"/>
            <a:ext cx="4929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Саввино-Сторожевский монастырь в войну 1812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ода. При любом нашествии с Запада Саввино-Сторожевский монастырь оказывался 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амом эпицентре событий. В конце августа 1812 года в обители разместился штаб 4-го корпуса французской армии во главе с командиром — вице-королем Италии Евгением Богарне. С этим человеком произошло событие, которое церковное предание сохраняет как одно из самых удивительных чудес преподобного Саввы Сторожевского. Сын Евгения Богарне записал рассказ своего отца об этом чудесном событ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5715000" y="642960"/>
            <a:ext cx="3138480" cy="54291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214200" y="-76680"/>
            <a:ext cx="542952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nstantia"/>
              </a:rPr>
              <a:t>Чудо преподобного Савв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Constantia"/>
              </a:rPr>
              <a:t>«Было уже около десяти часов вечера. Отец мой, утомленный от большого перехода, отправился спать. Вскоре (он не мог припомнить, во сне или наяву) он увидел, что отворяется дверь, в его комнату входит тихими шагами человек в черной длинной одежде, подходит к нему так близко, что он мог при лунном свете разглядеть черты его лица. Около минуты стоял он, как бы рассматривая принца, наконец тихим голосом сказал: «Не вели войску своему расхищать монастырь и особенно - уносить что-нибудь из церкви. Если ты исполнишь мою просьбу, то Бог тебя помилует, и ты возвратишься в свое отечество целым и невредимым». Сказав это, старец тихо вышел из комнаты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6357960" y="500040"/>
            <a:ext cx="2473200" cy="60260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214200" y="-123480"/>
            <a:ext cx="5429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. Принц, проснувшись на рассвете, сейчас же вспомнил это видение... Пошел посмотреть церковь, у входа которой стояли часовые. Войдя в храм, он увидел гробницу и образ, который поразил его сходством с человеком, представившимся ему ночью. На вопрос его, чей это портрет, один из бывших тут монахов отвечал, что это образ святого Саввы, основателя монастыря, тело которого лежит в этой гробнице. Услышав это, принц с благоговением поклонился мощам святого и записал его имя в своей памятной книжке.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357200" y="642960"/>
            <a:ext cx="64296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785880" y="928800"/>
            <a:ext cx="75024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2286000" y="357120"/>
            <a:ext cx="421488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395280" y="333360"/>
            <a:ext cx="8353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итва  преподобному Савве, игуме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жевскому, Звенигородскому Чудотвор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, пречестная и священная главо, небеснаго Иерусалима гражданине, Пресвятыя Троицы обиталище, преподобне отче Савво! Велие имея дерзновение ко Всемилостивому Владыце, молися о стаде ограды твоея и о всех, по духу, чадех твоих: не премолчи вопия за ны ко Господу и не презри верою и любовию чтущих тя. Испроси, предстатсльством твоим, у Царя царствующих мир Церкви, под знаменем Креста воинствующей; архиереем святительства благолепие; монашествующим доброе в подвизех течение; граду сему и всем градом и странам охранение, миру безмятежие и мир, глада и пагубы избавление; старым и немощным утешение и подкрепление; юным и младенцем благое в вере возрастание, в евангельском учении твердое обучение и в чистоте и целомудрии пребывание; вдовицам и сиротам милость и заступление; плененным отраду и возвращение; болящим исцеление; согрешающим дух сокрушения; бедствующим и всем; благодатной помощи требующим; благовременную помощь. Не посрами нас, к тебе с верою притекающих: споспешествуй, яко чадолюбивый отец чадом, и нам понести иго Христово во благодушии и терпении и всех управи в мире и покаянии скончати живот свой непостыдно и преселитися, со упованием, во обители небесныя, идеже ты, по трудех и подвизех, ныне водворяешися со ангелы и святыми, зря и прославляя Бога, в Троице славимаго, Отца и Сына и Святаго Духа. Амин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то стал основателем Саввино-Сторожевского монастыр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ие иконы написал для монастыря Андрей Рублёв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сскажите о чуде преподобного Савв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187280" y="260280"/>
            <a:ext cx="6357960" cy="51008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285840" y="53622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пишите картину И.И. Левитана, написанную под впечатлением посещения окрестностей Саввино-Сторожевского монастыря. (стр.1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2627280" y="549360"/>
            <a:ext cx="3640320" cy="43765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214200" y="4982040"/>
            <a:ext cx="867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Одним из ближайших учеников преподобного Сергия Радонежского был преподобный Савва. Будущий великий святой пришел в обитель преподобного Сергия, совсем юным. Ему было не более восемнадцати лет, когда около 1345 года он принял монашеский постриг и был назван в честь подвижника древности преподобного Саввы Освяще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приложение3.wav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45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3132000" y="404640"/>
            <a:ext cx="3502080" cy="47865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214200" y="5271480"/>
            <a:ext cx="8534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После смерти преподобного Сергия преподобный Савва стал настоятелем Троице-Сергиевой обител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908000" y="476280"/>
            <a:ext cx="5829480" cy="3889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214200" y="433404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Первый храм монастыря, построенный в 1405 году среди векового леса, был посвящен Рождеству Пресвятой Богородицы, так как именно Ей горячо молился преподобный Савва, прося о помощи. Подавая пример инокам, он выполнял все необходимые работы, предостерегая всех от празд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3276720" y="260280"/>
            <a:ext cx="3193920" cy="478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214200" y="4803840"/>
            <a:ext cx="875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подобный Савва скончался 3 декабря 1406 года, дожив до глубокой старости. Шестьдесят лет он прожил в монашеском подвиге. Его похоронили в белокаменном соборе в честь Рождества Пресвятой Богород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908000" y="333360"/>
            <a:ext cx="5286600" cy="35258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214200" y="406188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а том месте, где был построен монастырь, прежде находился пост со Сторожевой башней и висел колокол, предупреждавший о приближении врагов. Возможно, и название города Звенигорода произошло из сочетания двух слов «звени» и «гора» и связано с этим колоколом на Сторожевой горе. Название монастыря связано с его расположением на месте Сторожевой башни на Сторожевой горе и с памятью первого игумена монастыря – Савв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5786280" y="785880"/>
            <a:ext cx="2922840" cy="5340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214200" y="243720"/>
            <a:ext cx="5214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уховная красота преподобного Саввы Сторожевского во все времена привлекала в монастырь многих людей. Подолгу жил в нем иконописец Андрей Рублёв, которого князь Юрий Звенигородский пригласил в свои владения для писания икон. Для Рождественского собора им было написано семь икон, получивших название «Звенигородский чин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4714920" y="500040"/>
            <a:ext cx="3672000" cy="57308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500040" y="1091160"/>
            <a:ext cx="378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о нашего времени сохранились только три из них: «Спаситель», «Архангел Михаил», «Апостол Павел». Они находятся в Третьяковской галер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258920" y="260280"/>
            <a:ext cx="6357960" cy="42404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214200" y="418464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настырь помогал многим людям: при монастыре был построен странноприимный дом для престарелых и больных, богадельня, две гостиницы, книжная лавка, иконописная и картинная мастерские. Происходило немало чудес и исцелений в монастыре, на святом источнике, по преданию, вырытом самим преподоб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9:03:03Z</dcterms:created>
  <dc:creator>я</dc:creator>
  <dc:description/>
  <dc:language>en-US</dc:language>
  <cp:lastModifiedBy>Лариса</cp:lastModifiedBy>
  <dcterms:modified xsi:type="dcterms:W3CDTF">2023-09-13T07:23:23Z</dcterms:modified>
  <cp:revision>53</cp:revision>
  <dc:subject/>
  <dc:title>Западное Подмосковье. К звенигородскому чудотворцу преподобному  Савве Сторожевскому.</dc:title>
</cp:coreProperties>
</file>